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9B3-6950-4260-B423-12831030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60C-F4A2-4944-BDD8-37FE284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E16-3E96-4454-ADE0-649290E8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480-DDEA-4E0B-9D85-00211E38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BB0-68C1-45CF-A874-60E6ACD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A46-6ACB-43B2-8263-D08AA43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780-EDAF-47FC-A5AE-0C621827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C4B-1D88-4240-9835-C0DAD17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C56-A5E8-44F0-BD11-1F7F00D8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D04-9F48-4F1A-840B-A920C63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3E9-7CEB-4068-9410-9C26795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F7E-F2FA-4E8C-8733-0C3AED4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585-0E93-4542-9195-54DE6EE7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Into the 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6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211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364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90512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306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45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3904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1978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2200" y="1981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256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828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2096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14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8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74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1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99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3530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90920" y="3246480"/>
            <a:ext cx="2895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7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3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1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152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2971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3:23Z</dcterms:modified>
  <cp:revision>18</cp:revision>
  <dc:subject/>
  <dc:title>Rivet</dc:title>
</cp:coreProperties>
</file>